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86CB-0FE7-4547-BDB0-A6F50F126B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6C39-233A-4196-838A-2849C69CBF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FC47-71FC-43B0-928A-0D13F1D8F4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239-A209-4C19-973A-33B38C16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6C7-E140-4117-8A4C-3A2D65ED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27967-9905-45AB-8623-7A2C1DBD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3414A-3173-4ADA-90B5-0B289B5D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D420A-0665-4347-8855-E6741D31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06434-3B53-429D-8F80-E8253E8F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F5F24-07B7-4A32-A65C-D122E723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60657-DA37-4302-94B0-83BA05A3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078D3-25D3-4126-9E6D-B4F68E3F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80E37-0A85-4B52-97A4-98CB761D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481CA-4770-4D7E-A8AB-A9258127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33A03-ACDD-4C72-8ABB-C76DF5EA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F5C-AC7B-4FD4-8F1C-E3CD25C4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79AE2-67A7-440F-AA92-5CC37B5E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8157B-D02D-47D5-9AE6-92C97C9D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F7840-FB4F-4F8A-AEC3-796D81CA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5FB0A-658A-4169-8391-06D87F00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39986-3C35-41D5-9F42-1D93E195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5E23B-A4CE-42F3-8D98-29F723E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44AA7-5B00-4747-9387-B3DE843B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3AA87-9E65-4AC7-98FC-B044490D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F466E-24DD-41C6-A5D4-188EFE53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0C113-3F09-4CB3-8D10-4EF4C3D1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D5B-9F94-46D0-878A-0C3ECF04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FA637-4024-4C24-BC47-523C53C6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6D808-5564-4989-A09E-8FABE708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86B63-7FDC-4157-A6D0-E1A5BC5C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A4FF2-C6B0-432E-8E62-9FA79371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34161-B7D9-4619-A027-E126F6DF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89204-CAC7-4A27-9AE6-AAA9B6A6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6DAB3-264C-4B42-B62F-85C637C2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29FBB-EB07-4A96-B438-9D407ACA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5FCB4-28E4-4DD3-B3E0-70C86909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26751-48B3-4234-B73C-8DE3216F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826D-8B63-4535-A35A-A4A7EC9C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D143C-248D-4269-A9A8-A78B1D40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2D7F3-2AED-4FC2-BF3D-37C04E4C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1723C-D38B-4FD9-B81A-6B8273CE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F9BAE-5C93-4B32-A73F-9E2453EB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40109-033D-4DFE-9859-FCBA49C4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7C459-1EBA-48CA-9A62-DCDCDA6F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6B3E3-C78B-44C1-B15A-F45A4CA3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099F4-21EF-45EA-82DC-D8B91B4D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214320-B79B-4447-995F-D4AD301B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D98F1-AA13-44B7-92A8-224A86CC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1B4C-1B65-4299-86B2-4A875663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CFE7C-EBEF-44C0-BCFB-CBD0CC6A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CA633-2B77-4985-BB5E-3E517BA1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35776-AB83-4132-A4B4-3586F8CB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AF868-CD1A-49C1-A19A-61CD867B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8FDEB-9F1F-456C-A7AD-FCA9F954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E5B6-1730-41EC-B75E-4F018095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D24C-E36F-4C70-91BE-F9404289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436A-5923-45F7-B681-1900C33C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7F0D-BE20-463E-A8A0-CA770296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D675-2FA2-4747-A594-7543A852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3D8-D64D-4579-8F5B-95D42A9E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EEC2-8543-4EB5-86FA-B8C3073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318E-BECD-4E16-B277-6FFEA313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BF66-B733-4FF0-9DE7-C419958F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7BA3-120D-4681-A6F0-0D0AC448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7557-811E-46CA-87E9-3DFD3A69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3F1D-CE3B-42EF-972A-86F8560F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14F5-FED3-4AA0-BEDC-78950B57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A317-BF7D-4383-89C4-A4A6C4E9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C878B-C0E4-4AAD-A5B6-99046B6F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D954-16DA-4EE3-9D23-B806AAE3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01F-F6A2-4BB4-9B6E-9C491FD8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3756-9E10-4B40-A054-C5519956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B58A-1D0D-4385-B232-A05D259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1DA14-1A13-4E1C-BC7E-1575057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DFF2-C7B1-4CFF-B9F8-08E97CAA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8B2F-17BC-484A-89DD-185841E9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33685-44D3-4241-9E51-56109C93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19A29-E45D-4B5C-A432-2BFD45E8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CFF36-6B36-410F-82B8-1AD0557D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EE90-E3DD-4C33-866C-00EB2936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12E4-7107-4908-8771-D20CC68D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0B9-E897-47CE-A7BC-9A3AEAAE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CBFE-2E5B-4E9D-BC4A-6C936C4A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F5C92-A73E-48BA-98C3-E935307A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55BC7-E160-4939-9D50-73C83891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8BAB-313C-410E-BC3E-77CDC36C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E578-C9B4-4410-8EB9-0AD99FCA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9B427-E34F-4CF2-89B3-7981B9F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8AB96-4CD3-4166-BD48-25A7A3F5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3B12B-1EB5-48B5-8B71-2B530401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8EC13-8890-4E58-9066-432B8B4F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E7902-820D-49A0-A352-4508D897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6AC-355F-4F63-9561-7104C281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93A28-92D7-40C0-BC58-2947B4CB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87177-6A84-4594-849D-769EDF02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B3682-1E7C-4A92-8262-DD15FDD2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453D2-54D2-477C-AE8E-AF01D91D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10157-9376-4DEB-8B25-1B06F109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88A7B-8D7B-469E-B614-175B625A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C3162-BAE4-4B23-A3B7-1CE07615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61D89-9213-4E11-9DBA-C77A1612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EC40F-0FAC-4C47-95BD-12770DA0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02ED0-6F8D-4242-B329-6E8F0028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8DC-DBD0-4570-9F2C-16114B30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40FF3-345F-437C-8EDE-93120440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D38C6-1B91-49F8-B61A-B3392883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B7FF3-A6E4-48B6-8A9B-4750AE26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3B70B-4116-4114-81F8-05AB85B6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13E81-2F95-4307-89F0-8AD5CEDB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2C6E1-514E-4203-BC35-5117C59F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22636-A568-4B7D-89EE-5B43E645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4DF33-14B7-43E8-8ACD-C546F2B7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0AC20-50F8-4232-9288-AA52B695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61016-D01E-4185-BCD0-D3507DA3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416-2306-4344-9F79-FF1A556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B6DA2-047F-4E29-A6FA-78172F98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8B367-2EA7-4FEB-960C-A2E6C7E8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D27B5-B847-401C-A5C0-DC3F319A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24DA3-DDB4-4299-BC74-43E61BE2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1F595-DC03-4FBC-8800-0B2E5FD9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B8EA6-3326-4F77-BFAA-F4F2311B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DAD07-FCAA-43F0-94F0-33DC384A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34E4D-20DD-4FC7-9317-D856B1B8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01CF6-9A80-46E4-91E4-9F678059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96C00-6BE1-4505-AA22-17C49E1D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5ED-3853-4B8A-8B47-80A5E447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2F6A5-6F65-4410-BCFA-43222EBF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CACC0-A94E-4A52-9399-9C07BBB0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DD4A0-97ED-47D9-8BCD-F7DD30A1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760B7-51B5-4028-9E68-5236372A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013B5-DCE9-4CAA-99BE-BEF6A66A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D0FDE-59BB-4B34-B4C8-BFFDE281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187FA-38CA-4D26-A3C4-000E6977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EE9A9-A593-4C77-A32B-5CF9EDA0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17A57-EB40-4192-84F0-74E99038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AE629-FBA4-4FA8-9BE0-993BE468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CD0-C88A-4B23-9856-7C498170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25FC9-8973-4CB3-A0E3-F3DB6F00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66F73-1790-4A2E-9494-26CFBCFF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522CB-EE72-4147-A8F5-CD203397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99276-5D0D-4539-9252-1912DD0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8D1BF-7C10-4C56-BDC0-DC205693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750D0-090F-44AC-BFF1-D9D41EA1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AB15A-F007-4E8C-B39B-B32FC422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0F941-4865-4B0D-B72E-413970DC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37095-9972-49C4-8195-AA269D7C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82E32-2A3D-465F-AD48-DF1C8C0B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9F37-72AB-4711-BDC1-F909389C7FE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31F0-E7BE-4F0D-8FBB-B3154132158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7131-AA2D-4C42-9162-C6A226EA4DE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002B-3255-40A4-861A-3663C92F11E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A90C-1A9E-455D-847F-F9A83EB8DFF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5F0C-69D7-49A4-9AC3-6EFA1AD069A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2D74-B621-47C2-B710-FFB91DD4DB8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5AFE-68D5-4F29-A556-0B2A1734D8F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75D1-D7C9-48C0-8086-60358B4FCDA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037-F39F-4D9C-82DF-692B603ADBB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D802-0218-4ED4-95CB-C4BFC890842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8DEA-941C-41E4-B623-BD633A810F2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172960" y="2707920"/>
            <a:ext cx="686268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читаю необходимым подумать, как нам возродить институт наставничества. Многие из тех, кто сегодня успешно трудится на производстве, уже проходили эту школу».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В. Путин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Georgia"/>
              </a:rPr>
              <a:t>ШКОЛЬНАЯ МЕТОДИЧЕСКАЯ КОНФЕРЕНЦИЯ «ПОВЫШЕНИЕ ПРОФЕССИОНАЛЬНОГО МАСТЕРСТВА ПЕДАГОГА НА ОСНОВЕ НАСТАВНИЧЕСТВА»</a:t>
            </a: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                                          </a:t>
            </a:r>
            <a:r>
              <a:rPr b="1" lang="ru-RU" sz="1200" spc="-1" strike="noStrike">
                <a:solidFill>
                  <a:srgbClr val="0070c0"/>
                </a:solidFill>
                <a:latin typeface="Georgia"/>
              </a:rPr>
              <a:t>31.05.2023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3" descr="C:\Users\Ivanova\Videos\Desktop\nastavnik-dlya-bloggera.gif"/>
          <p:cNvPicPr/>
          <p:nvPr/>
        </p:nvPicPr>
        <p:blipFill>
          <a:blip r:embed="rId1"/>
          <a:stretch/>
        </p:blipFill>
        <p:spPr>
          <a:xfrm>
            <a:off x="17640" y="2997360"/>
            <a:ext cx="2155680" cy="28494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одзаголовок 2"/>
          <p:cNvSpPr/>
          <p:nvPr/>
        </p:nvSpPr>
        <p:spPr>
          <a:xfrm>
            <a:off x="2077920" y="334800"/>
            <a:ext cx="65534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8785080" cy="2448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6264360" y="1639800"/>
            <a:ext cx="2698560" cy="9921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" descr="C:\Users\Ivanova\Videos\Desktop\nastavnik-dlya-bloggera.gif"/>
          <p:cNvPicPr/>
          <p:nvPr/>
        </p:nvPicPr>
        <p:blipFill>
          <a:blip r:embed="rId3"/>
          <a:stretch/>
        </p:blipFill>
        <p:spPr>
          <a:xfrm>
            <a:off x="200160" y="334800"/>
            <a:ext cx="1757160" cy="232416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1"/>
          <p:cNvSpPr/>
          <p:nvPr/>
        </p:nvSpPr>
        <p:spPr>
          <a:xfrm>
            <a:off x="196920" y="2565360"/>
            <a:ext cx="87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Формы наставничеств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«учитель – учитель»:  Добрян Т.В.; Окс Л.Н., Квитка А.В.- Арипова А.А.,  Коптева Е.Н. – Симонова Н.С., Мазитова Ю.А. - Айтнякова А.М.,  Халикова Л.Р. – Ковалева С.В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«студент – ученик»:   «Виртуальный педагогический класс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«работодатель – ученик»: работа с одаренными деть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«работодатель – студент»: Медведева Н.В. – студенты-практик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«ученик – ученик»: постоянные и сменные пары на уроках, совместные проекты, педагогическая группа, консуль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ОГРАММА КОНФЕРЕНЦИ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9280" y="148392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Добрян Т.В.   «Профессиональное  взаимодействие педагогов как метод наставничества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Квитка А.В.  «Если с другом выйти в путь…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Симонова Н.С.,  Айтнякова А.М.  «Опыт наставничества по форме «учитель-учитель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Халикова Л.Р.  «Подготовка  педкадров - дело рук самих педкадров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Мухамадиева В.В.,  Арипова А.А.  «Наставничество: рождение звезды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Медведева Н.В.  «Опыт наставничества «работодатель-студент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Коптева Е.Н.  «Наставничество в рамках проекта «Орлята России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108000" y="-531720"/>
            <a:ext cx="5327640" cy="691344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3"/>
          <p:cNvSpPr/>
          <p:nvPr/>
        </p:nvSpPr>
        <p:spPr>
          <a:xfrm>
            <a:off x="5753160" y="1773360"/>
            <a:ext cx="302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«ученик – ученик»:   постоянные и сменные пары на урок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овместные проекты, педагогическая группа, консультационные суб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2670120" y="-171360"/>
            <a:ext cx="6473880" cy="54054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2"/>
          <a:stretch/>
        </p:blipFill>
        <p:spPr>
          <a:xfrm>
            <a:off x="108000" y="5186520"/>
            <a:ext cx="4032360" cy="14047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" descr="C:\Users\Ivanova\Videos\Desktop\nastavnik-dlya-bloggera.gif"/>
          <p:cNvPicPr/>
          <p:nvPr/>
        </p:nvPicPr>
        <p:blipFill>
          <a:blip r:embed="rId3"/>
          <a:stretch/>
        </p:blipFill>
        <p:spPr>
          <a:xfrm>
            <a:off x="324000" y="1484280"/>
            <a:ext cx="1757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1692360" y="0"/>
            <a:ext cx="6048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Рисунок 2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543200" cy="33656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" descr=""/>
          <p:cNvPicPr/>
          <p:nvPr/>
        </p:nvPicPr>
        <p:blipFill>
          <a:blip r:embed="rId2"/>
          <a:stretch/>
        </p:blipFill>
        <p:spPr>
          <a:xfrm>
            <a:off x="324000" y="212760"/>
            <a:ext cx="1733400" cy="1523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" descr=""/>
          <p:cNvPicPr/>
          <p:nvPr/>
        </p:nvPicPr>
        <p:blipFill>
          <a:blip r:embed="rId3"/>
          <a:stretch/>
        </p:blipFill>
        <p:spPr>
          <a:xfrm>
            <a:off x="2646360" y="378000"/>
            <a:ext cx="865080" cy="8283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C:\Users\Ivanova\Videos\Desktop\nastavnik-dlya-bloggera.gif"/>
          <p:cNvPicPr/>
          <p:nvPr/>
        </p:nvPicPr>
        <p:blipFill>
          <a:blip r:embed="rId4"/>
          <a:stretch/>
        </p:blipFill>
        <p:spPr>
          <a:xfrm>
            <a:off x="112680" y="2852640"/>
            <a:ext cx="1944720" cy="2570400"/>
          </a:xfrm>
          <a:prstGeom prst="rect">
            <a:avLst/>
          </a:prstGeom>
          <a:ln w="0">
            <a:noFill/>
          </a:ln>
        </p:spPr>
      </p:pic>
      <p:sp>
        <p:nvSpPr>
          <p:cNvPr id="657" name="Подзаголовок 2"/>
          <p:cNvSpPr/>
          <p:nvPr/>
        </p:nvSpPr>
        <p:spPr>
          <a:xfrm>
            <a:off x="1547640" y="3860640"/>
            <a:ext cx="740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Georgia"/>
                <a:ea typeface="Arial"/>
              </a:rPr>
              <a:t>ПУСТЬ  ВАМ  ВСТРЕТЯТСЯ  ИНТЕРЕСНЫЕ  И  МУДРЫЕ  НАСТАВНИКИ 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Georgia"/>
                <a:ea typeface="Arial"/>
              </a:rPr>
              <a:t>АКТИВНЫЕ,   ЗАИНТЕРЕСОВАННЫЕ НАСТАВЛЯЕМЫ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дзаголовок 2"/>
          <p:cNvSpPr/>
          <p:nvPr/>
        </p:nvSpPr>
        <p:spPr>
          <a:xfrm>
            <a:off x="179280" y="3284640"/>
            <a:ext cx="8964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  <a:ea typeface="Arial"/>
              </a:rPr>
              <a:t>ВВЕДЕНИЕ НОВЫХ ФЕДЕРАЛЬНЫХ ГОСУДАРСТВЕННЫХ ОБРАЗОВАТЕЛЬНЫХ СТАНДАРТОВ И ПРОФЕССИОНАЛЬНЫХ ПЕДАГОГИЧЕСКИХ СТАНДАРТОВ, ГОСУДАРСТВЕННАЯ ОБРАЗОВАТЕЛЬНАЯ ПОЛИТИКА РФ, ЗАПРОС ОБЩЕСТВА,  РЕАЛИЗАЦИЯ ПАРАДИГМЫ «ОБРАЗОВАНИЕ ЧЕРЕЗ ВСЮ ЖИЗНЬ» ТРЕБУЕТ ОТ ПЕДАГОГА НОВОГО КАЧЕСТВА В ЕГО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  <a:ea typeface="Arial"/>
              </a:rPr>
              <a:t>ГЛАВНАЯ    ЦЕЛЬ    СИСТЕМЫ НАСТАВНИЧЕСТВА    – ПОВЫШЕНИЕ ПРОФЕССИОНАЛИЗМА И КАЧЕСТВА ПРЕПОДАВА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4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8785440" cy="2448000"/>
          </a:xfrm>
          <a:prstGeom prst="rect">
            <a:avLst/>
          </a:prstGeom>
          <a:ln w="0">
            <a:noFill/>
          </a:ln>
        </p:spPr>
      </p:pic>
      <p:sp>
        <p:nvSpPr>
          <p:cNvPr id="618" name="Заголовок 1"/>
          <p:cNvSpPr/>
          <p:nvPr/>
        </p:nvSpPr>
        <p:spPr>
          <a:xfrm>
            <a:off x="971640" y="2709720"/>
            <a:ext cx="720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  <a:ea typeface="Arial"/>
              </a:rPr>
              <a:t>Что  меняет отношение к наставничеств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C:\Users\Ivanova\Videos\Desktop\nastavnik-dlya-bloggera.gif"/>
          <p:cNvPicPr/>
          <p:nvPr/>
        </p:nvPicPr>
        <p:blipFill>
          <a:blip r:embed="rId2"/>
          <a:stretch/>
        </p:blipFill>
        <p:spPr>
          <a:xfrm>
            <a:off x="179280" y="189000"/>
            <a:ext cx="1689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2268000" y="2852640"/>
            <a:ext cx="687564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НАСТАВНИК – ЭТО КВАЛИФИЦИРОВАННЫЙ СПЕЦИАЛИСТ, ПРОФЕССИОНАЛ ИЛИ ОПЫТНЫЙ РАБОТНИК, У КОТОРОГО ДРУГИЕ МОГУТ ПОЛУЧИТЬ СОВЕТ, РЕКОМЕНДАЦИЮ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3" descr="C:\Users\Ivanova\Videos\Desktop\nastavnik-dlya-bloggera.gif"/>
          <p:cNvPicPr/>
          <p:nvPr/>
        </p:nvPicPr>
        <p:blipFill>
          <a:blip r:embed="rId1"/>
          <a:stretch/>
        </p:blipFill>
        <p:spPr>
          <a:xfrm>
            <a:off x="17640" y="2997360"/>
            <a:ext cx="2155680" cy="2849400"/>
          </a:xfrm>
          <a:prstGeom prst="rect">
            <a:avLst/>
          </a:prstGeom>
          <a:ln w="0">
            <a:noFill/>
          </a:ln>
        </p:spPr>
      </p:pic>
      <p:sp>
        <p:nvSpPr>
          <p:cNvPr id="622" name="Подзаголовок 2"/>
          <p:cNvSpPr/>
          <p:nvPr/>
        </p:nvSpPr>
        <p:spPr>
          <a:xfrm>
            <a:off x="2087640" y="4149720"/>
            <a:ext cx="655308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  <a:ea typeface="Arial"/>
              </a:rPr>
              <a:t>НАСТАВНИК – ЭТО ЧЕЛОВЕК, КОТОРЫЙ СТАНОВИТСЯ ДЛЯ УЧЕНИКА НИТЬЮ, СВЯЗУЮЩЕЙ ЕГО  С БУДУЩИМ, ГОТОВИТ К САМОСТОЯТЕЛЬНОЙ ВЗРОСЛОЙ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1332000" y="-162000"/>
            <a:ext cx="6624720" cy="55357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2"/>
          <a:stretch/>
        </p:blipFill>
        <p:spPr>
          <a:xfrm>
            <a:off x="2050920" y="5516640"/>
            <a:ext cx="5621400" cy="8539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C:\Users\Ivanova\Videos\Desktop\nastavnik-dlya-bloggera.gif"/>
          <p:cNvPicPr/>
          <p:nvPr/>
        </p:nvPicPr>
        <p:blipFill>
          <a:blip r:embed="rId3"/>
          <a:stretch/>
        </p:blipFill>
        <p:spPr>
          <a:xfrm>
            <a:off x="179280" y="189000"/>
            <a:ext cx="1011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2268000" y="2852640"/>
            <a:ext cx="687564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Подзаголовок 2"/>
          <p:cNvSpPr/>
          <p:nvPr/>
        </p:nvSpPr>
        <p:spPr>
          <a:xfrm>
            <a:off x="2077920" y="334800"/>
            <a:ext cx="65534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8785080" cy="2448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1332000" y="1620720"/>
            <a:ext cx="2950920" cy="1086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C:\Users\Ivanova\Videos\Desktop\nastavnik-dlya-bloggera.gif"/>
          <p:cNvPicPr/>
          <p:nvPr/>
        </p:nvPicPr>
        <p:blipFill>
          <a:blip r:embed="rId3"/>
          <a:stretch/>
        </p:blipFill>
        <p:spPr>
          <a:xfrm>
            <a:off x="200160" y="334800"/>
            <a:ext cx="1419120" cy="187812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1"/>
          <p:cNvSpPr/>
          <p:nvPr/>
        </p:nvSpPr>
        <p:spPr>
          <a:xfrm>
            <a:off x="200160" y="2619360"/>
            <a:ext cx="8785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Это методология наставничества обучающихся для организаций, осуществляющих образовательную деятельность по общеобразовательным, дополнительным программам  и программам среднего профессионального образов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       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Разработана ведомственным проектным офисом нацпроекта «Образовани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      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Утверждена распоряжением Министерства просвещения Российской Федерации от 25 декабря 2019 г. № Р-14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        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23 января 2020 года Министерство просвещения РФ опубликовало Письмо № МР – 42/02 о внедрении целевой модели наставничества в образовательных организациях Российской Феде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2448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C:\Users\Ivanova\Videos\Desktop\nastavnik-dlya-bloggera.gif"/>
          <p:cNvPicPr/>
          <p:nvPr/>
        </p:nvPicPr>
        <p:blipFill>
          <a:blip r:embed="rId2"/>
          <a:stretch/>
        </p:blipFill>
        <p:spPr>
          <a:xfrm>
            <a:off x="179280" y="173160"/>
            <a:ext cx="1440000" cy="1904760"/>
          </a:xfrm>
          <a:prstGeom prst="rect">
            <a:avLst/>
          </a:prstGeom>
          <a:ln w="0">
            <a:noFill/>
          </a:ln>
        </p:spPr>
      </p:pic>
      <p:sp>
        <p:nvSpPr>
          <p:cNvPr id="635" name="Подзаголовок 2"/>
          <p:cNvSpPr/>
          <p:nvPr/>
        </p:nvSpPr>
        <p:spPr>
          <a:xfrm>
            <a:off x="179280" y="2597040"/>
            <a:ext cx="878544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  <a:ea typeface="Arial"/>
              </a:rPr>
              <a:t>ФОРМЫ НАСТАВНИЧЕСТВА:  "УЧЕНИК - УЧЕНИК"; "УЧИТЕЛЬ - УЧИТЕЛЬ";  "СТУДЕНТ - УЧЕНИК";  "РАБОТОДАТЕЛЬ - УЧЕНИК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  <a:ea typeface="Arial"/>
              </a:rPr>
              <a:t>"РАБОТОДАТЕЛЬ - СТУДЕНТ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  <a:ea typeface="Arial"/>
              </a:rPr>
              <a:t>      </a:t>
            </a:r>
            <a:r>
              <a:rPr b="1" lang="ru-RU" sz="1600" spc="-1" strike="noStrike">
                <a:solidFill>
                  <a:srgbClr val="0070c0"/>
                </a:solidFill>
                <a:latin typeface="Georgia"/>
                <a:ea typeface="Arial"/>
              </a:rPr>
              <a:t>ТЕХНОЛОГИЯ НАСТАВНИЧЕСТВА ПРИМЕНИМА ДЛЯ РЕШЕНИЯ ПРОБЛЕМ, С КОТОРЫМИ СТАЛКИВАЮТСЯ ПЕДАГОГИ, В ТОМ ЧИСЛ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  <a:ea typeface="Arial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Georgia"/>
                <a:ea typeface="Arial"/>
              </a:rPr>
              <a:t>-     ПРОБЛЕМЫ МОЛОДОГО СПЕЦИАЛИСТА В НОВОМ КОЛЛЕКТИВ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  <a:ea typeface="Arial"/>
              </a:rPr>
              <a:t>-  ПРОБЛЕМЫ ПЕДАГОГА С БОЛЬШИМ СТАЖЕМ, ОЩУЩАЮЩЕГО СЕБЯ НЕКОМФОРТНО В МИРЕ НОВЫХ ОБРАЗОВАТЕЛЬНЫХ ТЕХНОЛОГИЙ ИЛИ ИСПЫТЫВАЮЩЕГО КРИЗИС ПРОФЕССИОНАЛЬНОГО  РОСТА,  НАХОДЯЩЕГОСЯ В СИТУАЦИИ ПРОФЕССИОНАЛЬНОГО ВЫГОР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Georgia"/>
                <a:ea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3840" y="189000"/>
            <a:ext cx="89298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Georgia"/>
              </a:rPr>
              <a:t>Форма наставничества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Georgia"/>
              </a:rPr>
              <a:t>"учитель - учитель"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1"/>
          <a:srcRect l="0" t="11756" r="0" b="6927"/>
          <a:stretch/>
        </p:blipFill>
        <p:spPr>
          <a:xfrm>
            <a:off x="189000" y="1374840"/>
            <a:ext cx="877572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3"/>
          <p:cNvSpPr/>
          <p:nvPr/>
        </p:nvSpPr>
        <p:spPr>
          <a:xfrm>
            <a:off x="179280" y="219960"/>
            <a:ext cx="89661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Задачи  взаимодействия наставника с наставляемым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-  формирование потребности заниматься анализом результатов своей профессиональ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-  развитие  интереса к методике построения и организации результативного учебного проце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-  ориентация педагога на использование передового педагогического опыта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;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-  привитие молодому специалисту интереса к педагогической деятельности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-  ускорение процесса профессионального становления педагог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-  устранение профессиональных дефицитов (у опытных педагог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20160" y="115920"/>
            <a:ext cx="9161640" cy="662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Оцениваемые результат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Georgia"/>
              </a:rPr>
              <a:t>повышение уровня удовлетворенности собственной работой и улучшение психоэмоционального состояния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Georgia"/>
              </a:rPr>
              <a:t>рост числа специалистов, желающих продолжать свою работу в качестве педагога в данном коллективе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Georgia"/>
              </a:rPr>
              <a:t>качественный рост успеваемости и улучшение поведения  учащихся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Georgia"/>
              </a:rPr>
              <a:t>профессиональный рост педагога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Georgia"/>
              </a:rPr>
              <a:t>рост числа собственных профессиональных работ: статей, исследований, методических практик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3:47:07Z</dcterms:created>
  <dc:creator>ЦНД</dc:creator>
  <dc:description/>
  <dc:language>en-US</dc:language>
  <cp:lastModifiedBy>Иванова</cp:lastModifiedBy>
  <dcterms:modified xsi:type="dcterms:W3CDTF">2023-05-31T03:16:19Z</dcterms:modified>
  <cp:revision>131</cp:revision>
  <dc:subject/>
  <dc:title>Слайд 1</dc:title>
</cp:coreProperties>
</file>